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AAA5-04E6-485C-8177-7AE8D947B02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724B-FE7A-4BD4-883E-95246F3B7B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8460-B82B-4535-8F19-9DFFD4F6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BAC7-3690-4535-9B5A-1FB66FE0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6449-8C05-4A91-BBBB-1131F671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1F6D-F06F-4DD8-B70C-8297A9DAE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2EFD-DEC1-442C-8950-CB7B3FDB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ECBE-BD53-4036-9A4A-4F389EDB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0E6C-1A15-4080-9F84-9D9270BD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8681-32B1-46F9-96E1-97D012EF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37F1-E617-435E-B9EC-E3F86E2D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7A31-D766-47DB-995D-8C0117FC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F83-57FD-4AF2-9563-A3CE4DAF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6ECA-1A45-46D2-8503-248C3476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0965-D4D5-4013-A177-219CB4B4525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8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Calibri"/>
              </a:rPr>
              <a:t>Quiz about “ecocide”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6092640"/>
            <a:ext cx="64008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898989"/>
                </a:solidFill>
                <a:latin typeface="Calibri"/>
              </a:rPr>
              <a:t>NASA Goddard Space Flight (under a Creative Commons Licence)</a:t>
            </a:r>
            <a:r>
              <a:rPr b="0" lang="en-GB" sz="1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5614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ecocid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eck by reading this short tex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The_Earth_needs_a_good_lawy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3203640" y="3068640"/>
            <a:ext cx="56196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iz:  True or Fal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56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Calibri"/>
              </a:rPr>
              <a:t>Watch the first 5 mins of this TED talk to see if these 4 statements are True or False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tedxtalks.ted.com/video/TEDxExeter-Polly-Higgins-Ecoc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thought that changed Polly’s life was that the Earth has righ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750 million people already agree that the Earth has righ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ly says that ecocide is as bad as genoc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ll 5 “crimes against peace” were agreed just after World War 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Key: 1) F  2) T  3) T  4) F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esting? Now watch the rest of the TED talk. As you watch, think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How is “wellbeing of the people” related to the environ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Is the destruction of the environment similar to slaver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How is “profit” related to “ecocide”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How is “ecocide” related to natural justi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7T11:20:09Z</dcterms:created>
  <dc:creator>Linda Ruas</dc:creator>
  <dc:description/>
  <dc:language>en-US</dc:language>
  <cp:lastModifiedBy>Linda Ruas</cp:lastModifiedBy>
  <dcterms:modified xsi:type="dcterms:W3CDTF">2014-05-27T11:34:07Z</dcterms:modified>
  <cp:revision>4</cp:revision>
  <dc:subject/>
  <dc:title>Quiz about “ecocide”</dc:title>
</cp:coreProperties>
</file>